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35F-E788-4D20-A916-DE01994D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79F-9587-4649-A65A-4C21D1DE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7B07F-7515-4669-B002-279E89FD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C594C-C3B1-4C31-8018-F6167979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46821-B683-4673-A1A5-F8D405CC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E49A0-5097-4E09-BA52-C05A2011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548E0-7AEE-40A7-B366-C2EEADF0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DB161-CC05-45A4-81E9-FE97E718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7E714-3594-4A88-9F8F-438F33D3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B8C07-9764-4D91-8AA2-788617F2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E4182-E247-43F3-A58B-E5161189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5B071-95FF-4038-A632-A096810A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911-2B73-4AEF-9FFA-C49ECA96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C262D-449E-4D0B-AB36-1D2610FB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F0E93-371F-4F5F-8892-F19673E8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85507-45AA-45BE-ABDB-969D9BEB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05489-E625-4947-846D-B2722E96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734D1-6455-47A4-97FD-CBDA41C2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E145F-5DA3-41C5-9BE7-4342980F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C3C13-23F4-4EE8-9AF4-3D9CECFE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23AE7-B588-4EEE-8192-EA5A9F40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C9F90-51C5-4EBF-8B0C-0B662A1B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AFE9F-91BE-4C7D-83CF-51536BC9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2A4-DAF3-4B57-8FF6-E8865BA4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910D9-83CE-443A-A58A-5666BBCF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03869-94A0-4B32-B474-CE73430B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B93D2-1B08-43C3-A6A3-24D3F03D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009FE-4D48-4516-9E83-6DB9A33E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75936-DD3D-4FAF-8843-B4E7861E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B2363-31B0-487C-AD17-65F03793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A32B9-A75B-4E2B-84C0-A2E0A918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0EFB6-DAA1-4209-8A29-7E33C12B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97E05-0FB4-43F5-A7F5-E2CAD616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D1409-BBE1-4A45-A107-C7742BDE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785C-DF05-46A0-923C-6C417DEC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A7E45-54E8-4130-9A0C-EB1B656D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8A52B-AAD0-46AA-80D5-B47A978B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C40E8-9907-45AD-9E96-34DE315D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365DD-AAA1-4608-BB58-4E6E0090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F919F-E30D-4D58-B8A3-1939AD45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3ABD2-1D32-4273-9AA5-54B7F968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4E3A7-3E54-4EBC-BF71-31E45B60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44E05-1189-47E6-9A35-03FEE8E1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26D5D-896E-4368-899F-48D31979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4F0FE-A58D-4BF5-9A70-D546D83B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33D2-23F2-4A86-8996-B0F0B23A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6B04A-4F56-4428-978A-FC5BA79F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96399-09D2-4D1C-BA3F-7DC8FF92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8622A-911C-4864-9048-22C1D99F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2C2D8-BEF1-4740-876A-6296D964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62DAF-E9EA-4C67-8C28-7486C1F6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F52EE-CB96-4B73-99EB-FF497171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AD217-28EE-4AB9-AAB6-CAC6791B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F07DB-2B43-4F6F-9E42-D6A45765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4F9DC-A003-4032-9E1C-4F46B30B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2AE3A-CBD1-475E-A100-1649B181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E397-8081-4246-A6A0-8F2A3A2A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2C087-0525-43A0-B7ED-0B516D04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C515B-FE49-4717-9735-CAFF494B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01985-890E-49D4-8D3B-695E4BB3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A5873-4B8C-4759-9BFF-89CD6516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62006-89A1-45B1-92A7-B3EE8E4C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02DFB-E929-4262-8311-6924EDF6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6E4BB-CCAB-48B5-9976-86964664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F26D0-E389-4E5B-863F-90FAF6EC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47143-C216-43C0-8E4D-BBD7B014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02BAD-7238-4ABD-B70A-0643493F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1317-77AB-4AFA-86ED-0235A811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021FE-E81A-4857-91AF-51CEA3F9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3676A-7605-47C1-8455-8524EB04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08D47-E624-4697-A226-51F95DD4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2167D-3558-439A-9BBA-8E27161F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83176-07A1-4DD3-8387-F9D666D5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9C4B9-627C-4424-9C53-76E56270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DB574-71AA-48C7-857F-CB61B820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09C1E-FB16-4E98-BB21-872A2B94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20377-D9E4-4AA7-80EF-45C9BE86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A1E33-61A9-4F3A-8724-A6806871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FD40-407E-4727-90C0-20089FB6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0BFD9-44C8-4864-A444-5072BC09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F0A9C-B027-4D37-9E62-53FF9BCD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40404B-8D0D-4943-8C08-D6084720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054EBC-8406-46C3-8BED-070D96D8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329AA-AF00-41C7-B1D1-B1EFD5F5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8710B6-0991-435F-93F5-8CCD061E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DDAF8-F1A8-4EDE-A7E3-CC3A14E1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5EEA58-40CF-4881-8C69-2BB38E67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82084-B08F-4B6F-BA7D-7BD99A48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C802EE-7B87-4BCE-96F9-076989E2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BDC1-763E-4110-B459-6DAA5A6C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C3E01-2DA6-42DE-ABA8-B9205D02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32FF6-AB9F-487C-BB4A-3F52B9B8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F14D46-D116-4614-826A-97C32536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9AB7F6-A4F2-4040-AB88-F15AD0EC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E61336-72C6-4907-9DED-AAB1DAD0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4E29C-2F81-4FE7-A19E-D18C60E0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071F7-BC93-44AC-A5AA-F2867D84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E94B5A-78D1-4778-8D57-EC7F7AEE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FF0A4-B9A5-4141-A146-DB9EAA92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334F83-B759-4797-9428-3EE2A22D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9475-0772-48FF-93EA-A6648C25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409ABF-A807-42A4-BA3E-87AF6FD4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72E71-B83A-42C9-A7CB-2E39249C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B9072-0C8F-496B-AD6D-86CE6E86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067B4-8D81-42C6-9131-40779033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FDA26-6F94-45C3-AE35-EA79BFF8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A573A5-56AD-466F-8E3A-B4AE72F2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0E5B21-9032-4F68-9400-C80B3C52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19EAC8-02BF-46BA-B0CA-EFC1EFDB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ACB8ED-11E1-4E11-9EB1-13E7EB11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44CC52-30A0-4934-B0AF-55469AD2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208-F074-4B27-A9C2-A8312E5B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9C9C-3737-47B4-8B87-61576B09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9562E1-EA38-443A-83CC-9511D066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AF2F3A-F533-467E-B98F-413CC607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35212A-620F-48D0-95ED-5DA79665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87C38-9780-47E9-BCF6-9DD4A913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86356B-BC95-4C7E-9F0E-89D546DA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AB4A-FFF5-4716-9C97-AB967236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C892-BA85-4BB5-9604-46447CEA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068F-79B6-4047-8BEB-970D4083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F318-0EAE-47F2-B3E0-CE4D8108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614FC-C995-4790-B5E5-6222EADB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E68CC-D528-4D59-A328-CB2D92F7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F400-396D-46B0-A11D-1A72BDA4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A23F2-7F32-497B-83A8-4DCC484F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60906-ECB0-4FD0-BEE8-9B64DFE1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922-E882-4313-A146-41E900B0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0050C-3993-47F5-8602-A04307CC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284CE-0A61-45B3-95E2-D6CBE291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9C64C-C707-4289-9663-E9A0B3F9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50B67-A099-4845-9331-245DB797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ADFC4-C5B0-4753-917C-D6F6CB27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5E347-9D5C-4899-8080-0677F840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ED671-7DE4-4BB3-B1DA-5F976B0A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D1F18-F709-41A8-8703-5D5CF393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CC150-5EEF-4C45-AE4C-BA94C7AC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60879-0297-448D-9F9F-AB302C8F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EB1-3FAD-47DB-B0A6-E54AF2A0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4FBF9-4B7D-49A2-B217-B9331142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5261C-3BC5-4A41-8D06-E34266B7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23B21-A20C-4BA0-8E7A-D634730E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6C95C-A3EB-4002-A4E6-5EB6E529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80FC1-31D5-4913-8DA7-26D6A3EC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AF7BC-4834-4BFF-802D-5ABC28D1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6B3A8-DEB2-46EF-8BF6-61BD544D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B8074-4605-4033-9B4A-22E947DC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EFAEC-8EB3-40B4-A196-A52E6A66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CE169-DB7B-41C5-9D7E-F5A85EB9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9E9-55D7-4C54-93F0-F4F6C0D2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D6B9B-0056-47CB-9B5D-29416D56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E52CC-4283-46FC-86EF-BF276B1B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01849-7BE8-43C6-A74C-DA03D3BA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45547-0C65-43AE-852E-CFACA730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20331-644F-4C33-BBC3-06916F3E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DBD60-FD84-4894-A44C-9F70B545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0DF59-30E6-4DCE-A69C-1F9CD2E3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A4542-46DC-425B-A004-C132AFE8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FE8C7-62D4-4A3C-986E-F42B1E6A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D8271-3DB9-4288-AC84-561A70CA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314-E970-4967-AB9A-3BC72B33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83730-E18C-47BC-A545-081E06FD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D4036-D953-447D-9609-D752851E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EF0C8-D613-4103-A230-0E463664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BF4A4-E804-4E28-B10F-6451AF1F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E9CBE-4148-42FD-B065-997934BE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E16B4-8E88-44D7-B2B6-BFDE2D9F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DE316-D8BB-41B9-8540-45888C64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0CF37-8E77-4CA2-9609-178C60A0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3B26F-A83D-468C-B1B4-282DF6F1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DD092-6FB3-4FFD-B483-40D91D2B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6C0-5DFD-46E5-A3C0-37AF2B86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B0A44-EC4B-461D-87CB-F706C9B7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123E6-D61F-4912-AE4A-DF36964A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647D3-1FC8-44DF-A625-FA28DC92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982F4-962F-4F99-8D69-35787916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D6011-BAEA-4AC6-AF6D-1F898000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5CB5E-8BD7-48C7-BC5A-57197F78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BF248-A54F-4DFB-A747-42183C7F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33F05-C5CF-47AB-AA65-5DC7CE36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AE286-C4DE-4897-BE8C-322569C8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CD31B-1410-4AC8-AEC3-019BABB8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20B-A6B5-4303-BC67-E411F8F8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ADDCB-8FF0-4757-86BE-F129E8EF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A1158-C60D-4C75-8A05-4EA25490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BF56E-6AD3-47E2-A1F9-FF735DAF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B5B0D-9FB9-41E7-8BCC-932FB59F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062D5-A211-4831-BC48-DBE1CC84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D10D6-15F5-4CF1-98BD-47213F05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8605E-1560-4CE7-B8B8-3A821FB8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3D89F-CFE6-4F09-B9D2-F334CD59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02789-3304-4C52-9285-9847E09A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DC41C-D64E-4257-8BE4-D9B054D1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F85-FA0A-4BDC-8428-9D2CE1B7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BDC08-97EA-4514-AF81-5C6924A1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1BA8D-CDF9-49C5-B4E9-77E7EFEC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6487B-859B-4D9B-B1D0-3A013C1B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1F33F-EEE0-4EFD-8C8F-45EEACE1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D487E-8743-4D5F-9D47-D823F838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58B8F-C769-431E-9E34-6001A038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ECC77-53CD-42E6-B455-F19E0CFB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1A3D9-9946-4EFF-8856-463EEB01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BD7DA-A90A-4EA9-B569-29EEB918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E91CB-2C63-43C2-BF8C-A359AD12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F872-7220-42AC-9BF6-64254E28553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9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A555-7E75-4F5E-A068-7C124AF0035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6241-D8CE-4BAC-B61B-AA61025ED01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8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1461-9A27-4B07-9909-12409FF0A49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2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1D5E-F399-40E1-B715-3EE11D400DF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7EAE-2ED0-4734-95BC-C2B4530187A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7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B519-0C26-4475-8F86-3C49EF9D6E0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1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CE1B-D204-4969-9E7F-4F4C6A5995D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21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13DA-D5BE-4A4D-BDAB-0C50DD93340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5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8B98-2318-4BCB-90FE-87AE6A79AEA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91DB-8E3F-485C-A219-7F1DE086B37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6C7A-E7E8-4AE6-9A57-866B55085B7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3591-04C7-4706-869E-176445D53B6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A90F-BD40-4E66-B2F3-B83F1DBC15B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BEAA-CB5D-4A79-B4A0-7CB6997824F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1413-30C7-4BA6-A346-C6214C40B03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8137-E830-47BE-944A-5472C97B8AD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tle 1"/>
          <p:cNvSpPr/>
          <p:nvPr/>
        </p:nvSpPr>
        <p:spPr>
          <a:xfrm>
            <a:off x="1600200" y="33480"/>
            <a:ext cx="73915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ontent Placeholder 2"/>
          <p:cNvSpPr/>
          <p:nvPr/>
        </p:nvSpPr>
        <p:spPr>
          <a:xfrm>
            <a:off x="152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VC- Bridg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dvancing Value Chains of Groundnuts and So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esented at the Annual Review workshop, Lilongwe Hotel, Lilong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8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6934320" y="5867280"/>
            <a:ext cx="1828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entury Gothic"/>
              </a:rPr>
              <a:t>Promote product aggregation and collective marketing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Formulation of aggregations pl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Pre-aggregation activities-facilitate the logistical arrangement for the aggregation to take plac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10280" y="594828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entury Gothic"/>
              </a:rPr>
              <a:t>Facilitate access to market information and marketing opportuniti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Raising awareness about markets and marketing optio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Strengthen and promote access to market information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Expand market opportunities and facilitate trad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961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Capacity building of FGs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stablishments of governance structur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Business management support serv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Establish well managed seed system (with a managing entity in place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Collaboration with Ag Diversification???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244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 txBox="1"/>
          <p:nvPr/>
        </p:nvSpPr>
        <p:spPr>
          <a:xfrm>
            <a:off x="255240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entury Gothic"/>
              </a:rPr>
              <a:t>Thanks you for your attention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8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Kabuli, Pelius (IITA)</cp:lastModifiedBy>
  <dcterms:modified xsi:type="dcterms:W3CDTF">2017-06-30T07:12:10Z</dcterms:modified>
  <cp:revision>109</cp:revision>
  <dc:subject/>
  <dc:title>Slide 1</dc:title>
</cp:coreProperties>
</file>